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4AD564-A3C6-4F4E-BD1B-A6B935B281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C0A96-8876-471D-A79E-E3008D29B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4D5DED-FF95-4848-96FE-65F1993AD4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39E477-64B3-4560-9D54-F4AEF2B84D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4A90E-8822-498A-B657-A0F017472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169D1-8880-49B2-A439-5E9007F6F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67214-1C59-4B49-BADE-F2720D613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288FB-7A6D-4106-9260-312C9A471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BEB2C-C332-4A3D-A0E6-8BEF21C9D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635B7-563F-4195-BDAA-092C35F29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72168-B20B-41F9-ABEC-59A6EAC80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3CE68-DBA3-4C52-9D9C-9FBAF0EA1B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B981F-2C52-44FC-82A1-C37FBAF721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en-US" sz="4800" spc="-1" strike="noStrike">
                <a:solidFill>
                  <a:srgbClr val="000000"/>
                </a:solidFill>
                <a:latin typeface="Arial"/>
              </a:rPr>
              <a:t>STROKES</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763640" y="4578480"/>
            <a:ext cx="6615360" cy="9604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Francis Kim, Matt Mason, and Montana Crowd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4"/>
          <p:cNvSpPr/>
          <p:nvPr/>
        </p:nvSpPr>
        <p:spPr>
          <a:xfrm>
            <a:off x="2178000" y="507960"/>
            <a:ext cx="5194440" cy="8388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BIBLIOGRAPHY</a:t>
            </a:r>
            <a:endParaRPr b="0" lang="en-US" sz="2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ccccff"/>
                </a:solidFill>
                <a:uFillTx/>
                <a:latin typeface="Arial"/>
              </a:rPr>
              <a:t>http://www.medicinenet.com/stroke_pictures_slideshow/article.htm</a:t>
            </a:r>
            <a:endParaRPr b="0" lang="en-US" sz="15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rPr>
              <a:t>http://www.medicinenet.com/strok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4"/>
          <p:cNvSpPr/>
          <p:nvPr/>
        </p:nvSpPr>
        <p:spPr>
          <a:xfrm>
            <a:off x="349200" y="1117440"/>
            <a:ext cx="9339480" cy="4687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rokes are caused when there are blod clots in the veins and stops blood from flowing into the brian.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n we get injured and we start to bleed eventually we stop.  That is because of blood clots.  Blood clots are formed when we get hurt and they eventually close up the wound.</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metimes the clots do notave the body and block the blood flow causing a stroke.</a:t>
            </a:r>
            <a:endParaRPr b="0" lang="en-US" sz="2700" spc="-1" strike="noStrike">
              <a:solidFill>
                <a:srgbClr val="000000"/>
              </a:solidFill>
              <a:latin typeface="Times New Roman"/>
            </a:endParaRPr>
          </a:p>
        </p:txBody>
      </p:sp>
      <p:sp>
        <p:nvSpPr>
          <p:cNvPr id="44" name="Text Box 5"/>
          <p:cNvSpPr/>
          <p:nvPr/>
        </p:nvSpPr>
        <p:spPr>
          <a:xfrm>
            <a:off x="2482920" y="0"/>
            <a:ext cx="520524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What is a stroke?</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4"/>
          <p:cNvSpPr/>
          <p:nvPr/>
        </p:nvSpPr>
        <p:spPr>
          <a:xfrm>
            <a:off x="-57240" y="101520"/>
            <a:ext cx="10131480" cy="3125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rigins of the stroke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rokes was first noticed 2400 years ago, of course back then they didnt have the technology and knowledge to know about thi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t was finally discovered in the 1600'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y noticed bleeding in the brian when it was discovered.</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4"/>
          <p:cNvSpPr/>
          <p:nvPr/>
        </p:nvSpPr>
        <p:spPr>
          <a:xfrm>
            <a:off x="-57240" y="50760"/>
            <a:ext cx="5423040" cy="3906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ROKE</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me symptoms of strokes are trouble walking, trouble with speaking and understanding, paralysis, trouble seeing, and headache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nyone should seek immediate help from a doctor if they are experiecing thi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4"/>
          <p:cNvSpPr/>
          <p:nvPr/>
        </p:nvSpPr>
        <p:spPr>
          <a:xfrm>
            <a:off x="2482920" y="812880"/>
            <a:ext cx="5194080" cy="3909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Effects Short and Long term</a:t>
            </a:r>
            <a:endParaRPr b="0" lang="en-US" sz="2700" spc="-1" strike="noStrike">
              <a:solidFill>
                <a:srgbClr val="000000"/>
              </a:solidFill>
              <a:latin typeface="Times New Roman"/>
            </a:endParaRPr>
          </a:p>
        </p:txBody>
      </p:sp>
      <p:sp>
        <p:nvSpPr>
          <p:cNvPr id="48" name="Text Box 5"/>
          <p:cNvSpPr/>
          <p:nvPr/>
        </p:nvSpPr>
        <p:spPr>
          <a:xfrm>
            <a:off x="760320" y="1546200"/>
            <a:ext cx="8613720" cy="54687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rokes Have both short and long term effects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st of the time your stroke effects will stay the same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rokes can get worse over time, but they can also get better with physical therapy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The effects that can come from a stroke are unpredictible becuase your losing brain cells</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pasms, numbness, tingling, spasms, lose of speech, trouble swallowing, and in severe case paralyzation and mental retardation</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4"/>
          <p:cNvSpPr/>
          <p:nvPr/>
        </p:nvSpPr>
        <p:spPr>
          <a:xfrm>
            <a:off x="2381400" y="609480"/>
            <a:ext cx="5194080" cy="3909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reatment</a:t>
            </a:r>
            <a:endParaRPr b="0" lang="en-US" sz="2700" spc="-1" strike="noStrike">
              <a:solidFill>
                <a:srgbClr val="000000"/>
              </a:solidFill>
              <a:latin typeface="Times New Roman"/>
            </a:endParaRPr>
          </a:p>
        </p:txBody>
      </p:sp>
      <p:sp>
        <p:nvSpPr>
          <p:cNvPr id="50" name="Text Box 5"/>
          <p:cNvSpPr/>
          <p:nvPr/>
        </p:nvSpPr>
        <p:spPr>
          <a:xfrm>
            <a:off x="255600" y="1260360"/>
            <a:ext cx="9518760" cy="50781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reatment is hard with stroke patients becuase you can't replace dead brain cells</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only treatment really, is physical therapy</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hysical therapy is a huge part of treatment for stroke victims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t helps them regain some skills that they lost with the stroke, which can include teaching them how to swallow, talk, and relearn how to use their mucsles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4"/>
          <p:cNvSpPr/>
          <p:nvPr/>
        </p:nvSpPr>
        <p:spPr>
          <a:xfrm>
            <a:off x="552600" y="3149640"/>
            <a:ext cx="909000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very 45 seconds, someone in America has a stroke</a:t>
            </a:r>
            <a:endParaRPr b="0" lang="en-US" sz="2700" spc="-1" strike="noStrike">
              <a:solidFill>
                <a:srgbClr val="000000"/>
              </a:solidFill>
              <a:latin typeface="Times New Roman"/>
            </a:endParaRPr>
          </a:p>
        </p:txBody>
      </p:sp>
      <p:sp>
        <p:nvSpPr>
          <p:cNvPr id="52" name="Text Box 5"/>
          <p:cNvSpPr/>
          <p:nvPr/>
        </p:nvSpPr>
        <p:spPr>
          <a:xfrm>
            <a:off x="2787480" y="406440"/>
            <a:ext cx="4465800" cy="3909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Wow #1</a:t>
            </a:r>
            <a:endParaRPr b="0" lang="en-US" sz="2700" spc="-1" strike="noStrike">
              <a:solidFill>
                <a:srgbClr val="000000"/>
              </a:solidFill>
              <a:latin typeface="Times New Roman"/>
            </a:endParaRPr>
          </a:p>
        </p:txBody>
      </p:sp>
      <p:pic>
        <p:nvPicPr>
          <p:cNvPr id="53" name="Picture 7" descr="http://www.healingdaily.com/conditions/stroke.jpg"/>
          <p:cNvPicPr/>
          <p:nvPr/>
        </p:nvPicPr>
        <p:blipFill>
          <a:blip r:embed="rId1"/>
          <a:stretch/>
        </p:blipFill>
        <p:spPr>
          <a:xfrm>
            <a:off x="3251160" y="3886200"/>
            <a:ext cx="2743200" cy="3543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4"/>
          <p:cNvSpPr/>
          <p:nvPr/>
        </p:nvSpPr>
        <p:spPr>
          <a:xfrm>
            <a:off x="3193920" y="406440"/>
            <a:ext cx="3622680" cy="23439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Wow #2</a:t>
            </a:r>
            <a:endParaRPr b="0" lang="en-US" sz="2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endParaRPr b="0" lang="en-US" sz="2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About 20% of all strokes occur to people under the age of 55</a:t>
            </a:r>
            <a:endParaRPr b="0" lang="en-US" sz="2700" spc="-1" strike="noStrike">
              <a:solidFill>
                <a:srgbClr val="000000"/>
              </a:solidFill>
              <a:latin typeface="Times New Roman"/>
            </a:endParaRPr>
          </a:p>
        </p:txBody>
      </p:sp>
      <p:pic>
        <p:nvPicPr>
          <p:cNvPr id="55" name="Picture 6" descr="http://theneweugenics.files.wordpress.com/2010/12/stroke-symptoms.jpg"/>
          <p:cNvPicPr/>
          <p:nvPr/>
        </p:nvPicPr>
        <p:blipFill>
          <a:blip r:embed="rId1"/>
          <a:stretch/>
        </p:blipFill>
        <p:spPr>
          <a:xfrm>
            <a:off x="2413080" y="3505320"/>
            <a:ext cx="4686120" cy="3133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4"/>
          <p:cNvSpPr/>
          <p:nvPr/>
        </p:nvSpPr>
        <p:spPr>
          <a:xfrm>
            <a:off x="2381400" y="406440"/>
            <a:ext cx="5194080" cy="19533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Wow #3</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bout 600,000 people have strokes every year.</a:t>
            </a:r>
            <a:endParaRPr b="0" lang="en-US" sz="2700" spc="-1" strike="noStrike">
              <a:solidFill>
                <a:srgbClr val="000000"/>
              </a:solidFill>
              <a:latin typeface="Times New Roman"/>
            </a:endParaRPr>
          </a:p>
        </p:txBody>
      </p:sp>
      <p:pic>
        <p:nvPicPr>
          <p:cNvPr id="57" name="Picture 6" descr="http://www.healthcentral.com/common/images/1/17133_1350_5.jpg"/>
          <p:cNvPicPr/>
          <p:nvPr/>
        </p:nvPicPr>
        <p:blipFill>
          <a:blip r:embed="rId1"/>
          <a:stretch/>
        </p:blipFill>
        <p:spPr>
          <a:xfrm>
            <a:off x="3022560" y="3809880"/>
            <a:ext cx="3809880" cy="3048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9250000</cp:lastModifiedBy>
  <dcterms:modified xsi:type="dcterms:W3CDTF">2011-09-02T17:20:34Z</dcterms:modified>
  <cp:revision>2</cp:revision>
  <dc:subject/>
  <dc:title>PowerPoint Presentation</dc:title>
</cp:coreProperties>
</file>